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6F7-4045-47B4-A6FC-E0628EF2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708-7E2E-47BD-9C08-B75DA476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A84-0A0B-4087-A01A-4FF193DD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546-774B-4BC2-A303-492C6C40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1AB-294F-4615-8DE4-2CD79A3D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020400"/>
            <a:ext cx="264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803-682D-41A7-B125-03901D43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05D-EC68-4619-95C6-596B7C65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AA8-AB02-4504-BD13-4659B0C8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733560" y="228240"/>
            <a:ext cx="52290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803-046B-4AA6-858C-C97E52A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E10-8188-4845-AFCF-0F9B0D0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02040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35C-C218-4F83-9F4E-A7D5789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0204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CFD-CBA5-4370-9109-EF7B889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301920" y="2449440"/>
            <a:ext cx="5822640" cy="4381560"/>
            <a:chOff x="3301920" y="2449440"/>
            <a:chExt cx="5822640" cy="4381560"/>
          </a:xfrm>
        </p:grpSpPr>
        <p:sp>
          <p:nvSpPr>
            <p:cNvPr id="1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73196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139840" indent="-228600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139840" indent="-228600">
              <a:lnSpc>
                <a:spcPct val="95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dt" idx="1"/>
          </p:nvPr>
        </p:nvSpPr>
        <p:spPr>
          <a:xfrm>
            <a:off x="132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sldNum" idx="3"/>
          </p:nvPr>
        </p:nvSpPr>
        <p:spPr>
          <a:xfrm>
            <a:off x="6754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9357-8B9C-47DE-90F5-108B2EBAF4AA}" type="slidenum"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304920" y="257040"/>
            <a:ext cx="1447560" cy="4287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914400"/>
            <a:ext cx="7772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1332000" cy="6858000"/>
            <a:chOff x="0" y="0"/>
            <a:chExt cx="1332000" cy="6858000"/>
          </a:xfrm>
        </p:grpSpPr>
        <p:sp>
          <p:nvSpPr>
            <p:cNvPr id="79" name=""/>
            <p:cNvSpPr/>
            <p:nvPr/>
          </p:nvSpPr>
          <p:spPr>
            <a:xfrm>
              <a:off x="0" y="2832120"/>
              <a:ext cx="1332000" cy="4025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4a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30560" cy="28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3301920" y="2449440"/>
            <a:ext cx="5822640" cy="4381560"/>
            <a:chOff x="3301920" y="2449440"/>
            <a:chExt cx="5822640" cy="4381560"/>
          </a:xfrm>
        </p:grpSpPr>
        <p:sp>
          <p:nvSpPr>
            <p:cNvPr id="82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4080" y="3003480"/>
              <a:ext cx="3188520" cy="2103480"/>
            </a:xfrm>
            <a:custGeom>
              <a:avLst/>
              <a:gdLst/>
              <a:ahLst/>
              <a:rect l="l" t="t" r="r" b="b"/>
              <a:pathLst>
                <a:path w="4351" h="2650">
                  <a:moveTo>
                    <a:pt x="0" y="2593"/>
                  </a:moveTo>
                  <a:lnTo>
                    <a:pt x="74" y="2447"/>
                  </a:lnTo>
                  <a:lnTo>
                    <a:pt x="165" y="2303"/>
                  </a:lnTo>
                  <a:lnTo>
                    <a:pt x="266" y="2172"/>
                  </a:lnTo>
                  <a:lnTo>
                    <a:pt x="357" y="2040"/>
                  </a:lnTo>
                  <a:lnTo>
                    <a:pt x="564" y="1781"/>
                  </a:lnTo>
                  <a:lnTo>
                    <a:pt x="787" y="1549"/>
                  </a:lnTo>
                  <a:lnTo>
                    <a:pt x="917" y="1433"/>
                  </a:lnTo>
                  <a:lnTo>
                    <a:pt x="1036" y="1316"/>
                  </a:lnTo>
                  <a:lnTo>
                    <a:pt x="1288" y="1101"/>
                  </a:lnTo>
                  <a:lnTo>
                    <a:pt x="1422" y="1000"/>
                  </a:lnTo>
                  <a:lnTo>
                    <a:pt x="1555" y="911"/>
                  </a:lnTo>
                  <a:lnTo>
                    <a:pt x="1835" y="723"/>
                  </a:lnTo>
                  <a:lnTo>
                    <a:pt x="1984" y="652"/>
                  </a:lnTo>
                  <a:lnTo>
                    <a:pt x="2132" y="566"/>
                  </a:lnTo>
                  <a:lnTo>
                    <a:pt x="2428" y="420"/>
                  </a:lnTo>
                  <a:lnTo>
                    <a:pt x="2591" y="360"/>
                  </a:lnTo>
                  <a:lnTo>
                    <a:pt x="2739" y="303"/>
                  </a:lnTo>
                  <a:lnTo>
                    <a:pt x="2902" y="245"/>
                  </a:lnTo>
                  <a:lnTo>
                    <a:pt x="3050" y="188"/>
                  </a:lnTo>
                  <a:lnTo>
                    <a:pt x="3213" y="145"/>
                  </a:lnTo>
                  <a:lnTo>
                    <a:pt x="3376" y="115"/>
                  </a:lnTo>
                  <a:lnTo>
                    <a:pt x="3537" y="71"/>
                  </a:lnTo>
                  <a:lnTo>
                    <a:pt x="3701" y="44"/>
                  </a:lnTo>
                  <a:lnTo>
                    <a:pt x="3864" y="30"/>
                  </a:lnTo>
                  <a:lnTo>
                    <a:pt x="4027" y="13"/>
                  </a:lnTo>
                  <a:lnTo>
                    <a:pt x="4190" y="0"/>
                  </a:lnTo>
                  <a:lnTo>
                    <a:pt x="4351" y="0"/>
                  </a:lnTo>
                  <a:lnTo>
                    <a:pt x="4351" y="115"/>
                  </a:lnTo>
                  <a:lnTo>
                    <a:pt x="4190" y="130"/>
                  </a:lnTo>
                  <a:lnTo>
                    <a:pt x="4027" y="130"/>
                  </a:lnTo>
                  <a:lnTo>
                    <a:pt x="3879" y="145"/>
                  </a:lnTo>
                  <a:lnTo>
                    <a:pt x="3716" y="174"/>
                  </a:lnTo>
                  <a:lnTo>
                    <a:pt x="3553" y="201"/>
                  </a:lnTo>
                  <a:lnTo>
                    <a:pt x="3405" y="232"/>
                  </a:lnTo>
                  <a:lnTo>
                    <a:pt x="3094" y="318"/>
                  </a:lnTo>
                  <a:lnTo>
                    <a:pt x="2931" y="360"/>
                  </a:lnTo>
                  <a:lnTo>
                    <a:pt x="2783" y="420"/>
                  </a:lnTo>
                  <a:lnTo>
                    <a:pt x="2487" y="535"/>
                  </a:lnTo>
                  <a:lnTo>
                    <a:pt x="2340" y="608"/>
                  </a:lnTo>
                  <a:lnTo>
                    <a:pt x="2192" y="681"/>
                  </a:lnTo>
                  <a:lnTo>
                    <a:pt x="2044" y="754"/>
                  </a:lnTo>
                  <a:lnTo>
                    <a:pt x="1910" y="838"/>
                  </a:lnTo>
                  <a:lnTo>
                    <a:pt x="1762" y="911"/>
                  </a:lnTo>
                  <a:lnTo>
                    <a:pt x="1627" y="1013"/>
                  </a:lnTo>
                  <a:lnTo>
                    <a:pt x="1363" y="1201"/>
                  </a:lnTo>
                  <a:lnTo>
                    <a:pt x="1244" y="1303"/>
                  </a:lnTo>
                  <a:lnTo>
                    <a:pt x="1126" y="1405"/>
                  </a:lnTo>
                  <a:lnTo>
                    <a:pt x="888" y="1622"/>
                  </a:lnTo>
                  <a:lnTo>
                    <a:pt x="769" y="1737"/>
                  </a:lnTo>
                  <a:lnTo>
                    <a:pt x="666" y="1867"/>
                  </a:lnTo>
                  <a:lnTo>
                    <a:pt x="564" y="1982"/>
                  </a:lnTo>
                  <a:lnTo>
                    <a:pt x="460" y="2115"/>
                  </a:lnTo>
                  <a:lnTo>
                    <a:pt x="370" y="2245"/>
                  </a:lnTo>
                  <a:lnTo>
                    <a:pt x="266" y="2374"/>
                  </a:lnTo>
                  <a:lnTo>
                    <a:pt x="103" y="2650"/>
                  </a:lnTo>
                  <a:lnTo>
                    <a:pt x="0" y="259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4200" y="6107040"/>
              <a:ext cx="150840" cy="723960"/>
            </a:xfrm>
            <a:custGeom>
              <a:avLst/>
              <a:gdLst/>
              <a:ahLst/>
              <a:rect l="l" t="t" r="r" b="b"/>
              <a:pathLst>
                <a:path w="205" h="911">
                  <a:moveTo>
                    <a:pt x="205" y="15"/>
                  </a:moveTo>
                  <a:lnTo>
                    <a:pt x="163" y="247"/>
                  </a:lnTo>
                  <a:lnTo>
                    <a:pt x="132" y="478"/>
                  </a:lnTo>
                  <a:lnTo>
                    <a:pt x="132" y="695"/>
                  </a:lnTo>
                  <a:lnTo>
                    <a:pt x="132" y="911"/>
                  </a:lnTo>
                  <a:lnTo>
                    <a:pt x="13" y="911"/>
                  </a:lnTo>
                  <a:lnTo>
                    <a:pt x="0" y="681"/>
                  </a:lnTo>
                  <a:lnTo>
                    <a:pt x="13" y="462"/>
                  </a:lnTo>
                  <a:lnTo>
                    <a:pt x="13" y="347"/>
                  </a:lnTo>
                  <a:lnTo>
                    <a:pt x="31" y="232"/>
                  </a:lnTo>
                  <a:lnTo>
                    <a:pt x="75" y="0"/>
                  </a:lnTo>
                  <a:lnTo>
                    <a:pt x="205" y="1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32160" y="5440320"/>
              <a:ext cx="3720240" cy="1390680"/>
            </a:xfrm>
            <a:custGeom>
              <a:avLst/>
              <a:gdLst/>
              <a:ahLst/>
              <a:rect l="l" t="t" r="r" b="b"/>
              <a:pathLst>
                <a:path w="5077" h="1750">
                  <a:moveTo>
                    <a:pt x="3879" y="1403"/>
                  </a:moveTo>
                  <a:lnTo>
                    <a:pt x="3820" y="1750"/>
                  </a:lnTo>
                  <a:lnTo>
                    <a:pt x="3597" y="1750"/>
                  </a:lnTo>
                  <a:lnTo>
                    <a:pt x="3612" y="1591"/>
                  </a:lnTo>
                  <a:lnTo>
                    <a:pt x="0" y="0"/>
                  </a:lnTo>
                  <a:lnTo>
                    <a:pt x="5077" y="693"/>
                  </a:lnTo>
                  <a:lnTo>
                    <a:pt x="3879" y="140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59720" y="6004080"/>
              <a:ext cx="1464840" cy="826920"/>
            </a:xfrm>
            <a:custGeom>
              <a:avLst/>
              <a:gdLst/>
              <a:ahLst/>
              <a:rect l="l" t="t" r="r" b="b"/>
              <a:pathLst>
                <a:path w="1998" h="1042">
                  <a:moveTo>
                    <a:pt x="962" y="941"/>
                  </a:moveTo>
                  <a:lnTo>
                    <a:pt x="1998" y="898"/>
                  </a:lnTo>
                  <a:lnTo>
                    <a:pt x="1998" y="1042"/>
                  </a:lnTo>
                  <a:lnTo>
                    <a:pt x="0" y="1042"/>
                  </a:lnTo>
                  <a:lnTo>
                    <a:pt x="399" y="0"/>
                  </a:lnTo>
                  <a:lnTo>
                    <a:pt x="962" y="94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52760" y="3622680"/>
              <a:ext cx="1171800" cy="2531880"/>
            </a:xfrm>
            <a:custGeom>
              <a:avLst/>
              <a:gdLst/>
              <a:ahLst/>
              <a:rect l="l" t="t" r="r" b="b"/>
              <a:pathLst>
                <a:path w="1599" h="3188">
                  <a:moveTo>
                    <a:pt x="1200" y="2274"/>
                  </a:moveTo>
                  <a:lnTo>
                    <a:pt x="1599" y="0"/>
                  </a:lnTo>
                  <a:lnTo>
                    <a:pt x="1599" y="969"/>
                  </a:lnTo>
                  <a:lnTo>
                    <a:pt x="1467" y="2086"/>
                  </a:lnTo>
                  <a:lnTo>
                    <a:pt x="1599" y="2131"/>
                  </a:lnTo>
                  <a:lnTo>
                    <a:pt x="1599" y="3188"/>
                  </a:lnTo>
                  <a:lnTo>
                    <a:pt x="0" y="2969"/>
                  </a:lnTo>
                  <a:lnTo>
                    <a:pt x="1200" y="2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96320" y="2449440"/>
              <a:ext cx="4728240" cy="3541680"/>
            </a:xfrm>
            <a:custGeom>
              <a:avLst/>
              <a:gdLst/>
              <a:ahLst/>
              <a:rect l="l" t="t" r="r" b="b"/>
              <a:pathLst>
                <a:path w="6454" h="4461">
                  <a:moveTo>
                    <a:pt x="4145" y="3290"/>
                  </a:moveTo>
                  <a:lnTo>
                    <a:pt x="6454" y="0"/>
                  </a:lnTo>
                  <a:lnTo>
                    <a:pt x="6454" y="307"/>
                  </a:lnTo>
                  <a:lnTo>
                    <a:pt x="4855" y="4461"/>
                  </a:lnTo>
                  <a:lnTo>
                    <a:pt x="4308" y="3505"/>
                  </a:lnTo>
                  <a:lnTo>
                    <a:pt x="0" y="3693"/>
                  </a:lnTo>
                  <a:lnTo>
                    <a:pt x="4145" y="329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78200" y="3473280"/>
              <a:ext cx="736920" cy="220680"/>
            </a:xfrm>
            <a:custGeom>
              <a:avLst/>
              <a:gdLst/>
              <a:ahLst/>
              <a:rect l="l" t="t" r="r" b="b"/>
              <a:pathLst>
                <a:path w="1006" h="276">
                  <a:moveTo>
                    <a:pt x="0" y="161"/>
                  </a:moveTo>
                  <a:lnTo>
                    <a:pt x="251" y="73"/>
                  </a:lnTo>
                  <a:lnTo>
                    <a:pt x="384" y="44"/>
                  </a:lnTo>
                  <a:lnTo>
                    <a:pt x="503" y="0"/>
                  </a:lnTo>
                  <a:lnTo>
                    <a:pt x="1006" y="73"/>
                  </a:lnTo>
                  <a:lnTo>
                    <a:pt x="873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3946680"/>
              <a:ext cx="1214640" cy="311040"/>
            </a:xfrm>
            <a:custGeom>
              <a:avLst/>
              <a:gdLst/>
              <a:ahLst/>
              <a:rect l="l" t="t" r="r" b="b"/>
              <a:pathLst>
                <a:path w="1659" h="391">
                  <a:moveTo>
                    <a:pt x="0" y="188"/>
                  </a:moveTo>
                  <a:lnTo>
                    <a:pt x="269" y="0"/>
                  </a:lnTo>
                  <a:lnTo>
                    <a:pt x="1659" y="188"/>
                  </a:lnTo>
                  <a:lnTo>
                    <a:pt x="1511" y="3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44760" y="4475160"/>
              <a:ext cx="1366920" cy="357120"/>
            </a:xfrm>
            <a:custGeom>
              <a:avLst/>
              <a:gdLst/>
              <a:ahLst/>
              <a:rect l="l" t="t" r="r" b="b"/>
              <a:pathLst>
                <a:path w="1866" h="449">
                  <a:moveTo>
                    <a:pt x="0" y="203"/>
                  </a:moveTo>
                  <a:lnTo>
                    <a:pt x="179" y="0"/>
                  </a:lnTo>
                  <a:lnTo>
                    <a:pt x="1866" y="246"/>
                  </a:lnTo>
                  <a:lnTo>
                    <a:pt x="1732" y="449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2240" y="5037120"/>
              <a:ext cx="55440" cy="12600"/>
            </a:xfrm>
            <a:custGeom>
              <a:avLst/>
              <a:gdLst/>
              <a:ahLst/>
              <a:rect l="l" t="t" r="r" b="b"/>
              <a:pathLst>
                <a:path w="75" h="16">
                  <a:moveTo>
                    <a:pt x="15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7400" y="6210360"/>
              <a:ext cx="616680" cy="26352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0" y="217"/>
                  </a:moveTo>
                  <a:lnTo>
                    <a:pt x="13" y="102"/>
                  </a:lnTo>
                  <a:lnTo>
                    <a:pt x="42" y="0"/>
                  </a:lnTo>
                  <a:lnTo>
                    <a:pt x="175" y="14"/>
                  </a:lnTo>
                  <a:lnTo>
                    <a:pt x="843" y="332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50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01920" y="5232240"/>
              <a:ext cx="799920" cy="230400"/>
            </a:xfrm>
            <a:custGeom>
              <a:avLst/>
              <a:gdLst/>
              <a:ahLst/>
              <a:rect l="l" t="t" r="r" b="b"/>
              <a:pathLst>
                <a:path w="1092" h="290">
                  <a:moveTo>
                    <a:pt x="0" y="161"/>
                  </a:moveTo>
                  <a:lnTo>
                    <a:pt x="58" y="0"/>
                  </a:lnTo>
                  <a:lnTo>
                    <a:pt x="1092" y="146"/>
                  </a:lnTo>
                  <a:lnTo>
                    <a:pt x="1035" y="29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c539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23960" y="1436400"/>
            <a:ext cx="715968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4"/>
          </p:nvPr>
        </p:nvSpPr>
        <p:spPr>
          <a:xfrm>
            <a:off x="3755880" y="6357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71600" y="6541920"/>
            <a:ext cx="1066680" cy="316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81080" algn="ctr">
              <a:lnSpc>
                <a:spcPct val="95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3176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82440" algn="ctr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82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ManTech Space Systems</a:t>
            </a:r>
            <a:br>
              <a:rPr sz="3700"/>
            </a:b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n-US" sz="3700" spc="-1" strike="noStrike">
                <a:solidFill>
                  <a:srgbClr val="003399"/>
                </a:solidFill>
                <a:latin typeface="Arial"/>
              </a:rPr>
              <a:t>NATO Operations</a:t>
            </a:r>
            <a:br>
              <a:rPr sz="3700"/>
            </a:br>
            <a:br>
              <a:rPr sz="3700"/>
            </a:b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ManTech- IPT Opening  </a:t>
            </a:r>
            <a:br>
              <a:rPr sz="2900"/>
            </a:b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Session</a:t>
            </a: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003399"/>
                </a:solidFill>
                <a:latin typeface="Arial"/>
              </a:rPr>
              <a:t>Lindy Martin</a:t>
            </a:r>
            <a:br>
              <a:rPr sz="37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ugust   10</a:t>
            </a:r>
            <a:r>
              <a:rPr b="1" lang="en-US" sz="2000" spc="-1" strike="noStrike" baseline="30000">
                <a:solidFill>
                  <a:srgbClr val="003399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, 200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Export Control Complianc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25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mport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MCCS fully understands the liabilities involved and takes appropriate measures to insure Mantech is in compli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676520"/>
            <a:ext cx="434340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Corporate Review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CCS NATO Contracts  Administrator, Theresa Schimek, gets corporate review and stance on all NATO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me reviews have been performed by outside parties at Geart Sime’s requ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CCS contract staff, in conjunction with corporate, has successfully obtained for various contrac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A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SP 73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SP 5’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CBC-F3DE-4B25-B33F-057B4C584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ODC’s Pricing Issu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16444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mportant comparis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On many US contracts we can only charge M/H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676520"/>
            <a:ext cx="434340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Computer Equi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be competitive on bids with large amounts of “Commodity “ computer equipment we must bid what the market will bear (2% -3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 other projects were we are sole-sourced or performing  in theater, we can get up to 20% f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15B-6794-4C84-869E-0432609ED8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Foreign Currency – Exchange Rat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712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676520"/>
            <a:ext cx="53337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Exchange Rate Issu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contracts are NOT in US doll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Tech attempts to mitigate as much of the currency risk as possible by bidding in the currency in which we expect expenses to be incur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010-FC91-45A5-83BA-7FCB8E495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Why Chase NATO Busines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767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NATO Ramps up as US and Coalition forces withdraw (Growing Market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ManTech holds a NATO/ NC3A BOA which restricts competiti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NATO wants more US firms working on NATO proje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Real Money vs. IDIQ Contrac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ManTech has an EXCELLENT past performance with NATO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ManTech will perform in hostile environments where many European firms will no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Competitive advantage with Euro / Dollar exchange rat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Average Business Unit profit is over 15%</a:t>
            </a: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Less Formal RFP process and more room for negotiation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DC5-61DF-4BE2-82E5-FA8E57F37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4400" y="5791320"/>
            <a:ext cx="73152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 Challenge with this structure is determining how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ure the “Legal ManTech Entity” within Belg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8954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3200400" cy="222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629400" y="2133720"/>
            <a:ext cx="987480" cy="291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838080" y="2286000"/>
            <a:ext cx="987480" cy="291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73400" y="312408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R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12080" y="29574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447920"/>
            <a:ext cx="5486400" cy="863640"/>
          </a:xfrm>
          <a:custGeom>
            <a:avLst/>
            <a:gdLst/>
            <a:ahLst/>
            <a:rect l="l" t="t" r="r" b="b"/>
            <a:pathLst>
              <a:path w="3456" h="1072">
                <a:moveTo>
                  <a:pt x="0" y="1072"/>
                </a:moveTo>
                <a:cubicBezTo>
                  <a:pt x="456" y="552"/>
                  <a:pt x="912" y="32"/>
                  <a:pt x="1488" y="16"/>
                </a:cubicBezTo>
                <a:cubicBezTo>
                  <a:pt x="2064" y="0"/>
                  <a:pt x="2760" y="488"/>
                  <a:pt x="3456" y="97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57600" y="533160"/>
            <a:ext cx="522936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ManTech NATO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Rear &amp; Forward</a:t>
            </a:r>
            <a:br>
              <a:rPr sz="2100"/>
            </a:b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Organizational Structure</a:t>
            </a:r>
            <a:endParaRPr b="1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523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ATO R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78128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ATO Forw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066680" y="1770120"/>
            <a:ext cx="6243840" cy="3967200"/>
            <a:chOff x="1066680" y="1770120"/>
            <a:chExt cx="6243840" cy="3967200"/>
          </a:xfrm>
        </p:grpSpPr>
        <p:sp>
          <p:nvSpPr>
            <p:cNvPr id="172" name=""/>
            <p:cNvSpPr/>
            <p:nvPr/>
          </p:nvSpPr>
          <p:spPr>
            <a:xfrm>
              <a:off x="3184560" y="1857240"/>
              <a:ext cx="1100160" cy="82872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4560" y="1857240"/>
              <a:ext cx="1100160" cy="828720"/>
            </a:xfrm>
            <a:prstGeom prst="rect">
              <a:avLst/>
            </a:prstGeom>
            <a:noFill/>
            <a:ln cap="rnd" w="7920">
              <a:solidFill>
                <a:srgbClr val="cdcd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1840" y="1874880"/>
              <a:ext cx="1063800" cy="793800"/>
            </a:xfrm>
            <a:prstGeom prst="rect">
              <a:avLst/>
            </a:prstGeom>
            <a:noFill/>
            <a:ln cap="rnd" w="7920">
              <a:solidFill>
                <a:srgbClr val="cdcd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92400" y="1770120"/>
              <a:ext cx="110016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92400" y="1770120"/>
              <a:ext cx="1100160" cy="828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1787400"/>
              <a:ext cx="1063440" cy="793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7400" y="1854360"/>
              <a:ext cx="67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Jay Kelley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40800" y="202104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Presid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47480" y="2181240"/>
              <a:ext cx="97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Space System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84880" y="2685960"/>
              <a:ext cx="917280" cy="89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4880" y="2685960"/>
              <a:ext cx="917280" cy="8938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3600" y="2703600"/>
              <a:ext cx="879480" cy="8586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55800" y="280512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Lindy Mart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71720" y="296532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Exec Di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47320" y="31320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NA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09800" y="329256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Market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43200" y="2598840"/>
              <a:ext cx="2200320" cy="87120"/>
            </a:xfrm>
            <a:custGeom>
              <a:avLst/>
              <a:gdLst/>
              <a:ahLst/>
              <a:rect l="l" t="t" r="r" b="b"/>
              <a:pathLst>
                <a:path w="1386" h="55">
                  <a:moveTo>
                    <a:pt x="0" y="0"/>
                  </a:moveTo>
                  <a:lnTo>
                    <a:pt x="0" y="37"/>
                  </a:lnTo>
                  <a:lnTo>
                    <a:pt x="1386" y="37"/>
                  </a:lnTo>
                  <a:lnTo>
                    <a:pt x="1386" y="55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34960" y="3989520"/>
              <a:ext cx="110016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34960" y="3989520"/>
              <a:ext cx="1100160" cy="7077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4006800"/>
              <a:ext cx="1063440" cy="6732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8440" y="409896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Todd Morg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88960" y="425916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NATO Program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57240" y="44258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Mg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4320" y="3579840"/>
              <a:ext cx="3859200" cy="409680"/>
            </a:xfrm>
            <a:custGeom>
              <a:avLst/>
              <a:gdLst/>
              <a:ahLst/>
              <a:rect l="l" t="t" r="r" b="b"/>
              <a:pathLst>
                <a:path w="2431" h="258">
                  <a:moveTo>
                    <a:pt x="2431" y="0"/>
                  </a:moveTo>
                  <a:lnTo>
                    <a:pt x="2431" y="203"/>
                  </a:lnTo>
                  <a:lnTo>
                    <a:pt x="0" y="203"/>
                  </a:lnTo>
                  <a:lnTo>
                    <a:pt x="0" y="258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4680" y="3895560"/>
              <a:ext cx="735120" cy="79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4680" y="3895560"/>
              <a:ext cx="735120" cy="7956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7360" y="396720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Yva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9200" y="412740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Blomm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33280" y="4294080"/>
              <a:ext cx="655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Marketing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26440" y="445464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NATO HQ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43520" y="3579840"/>
              <a:ext cx="641160" cy="712800"/>
            </a:xfrm>
            <a:custGeom>
              <a:avLst/>
              <a:gdLst/>
              <a:ahLst/>
              <a:rect l="l" t="t" r="r" b="b"/>
              <a:pathLst>
                <a:path w="404" h="449">
                  <a:moveTo>
                    <a:pt x="0" y="0"/>
                  </a:moveTo>
                  <a:lnTo>
                    <a:pt x="0" y="449"/>
                  </a:lnTo>
                  <a:lnTo>
                    <a:pt x="404" y="449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76840" y="4952880"/>
              <a:ext cx="733680" cy="78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76840" y="4952880"/>
              <a:ext cx="733680" cy="78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2000" y="501336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Arlett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95560" y="518148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Verhaegh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41360" y="534024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Admi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94920" y="550872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4822920"/>
              <a:ext cx="73512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822920"/>
              <a:ext cx="735120" cy="865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320" y="4925880"/>
              <a:ext cx="40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Brya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85840" y="50943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Cana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76120" y="525312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Project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06440" y="54133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Mg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4960" y="4697280"/>
              <a:ext cx="549360" cy="125640"/>
            </a:xfrm>
            <a:custGeom>
              <a:avLst/>
              <a:gdLst/>
              <a:ahLst/>
              <a:rect l="l" t="t" r="r" b="b"/>
              <a:pathLst>
                <a:path w="346" h="79">
                  <a:moveTo>
                    <a:pt x="346" y="0"/>
                  </a:moveTo>
                  <a:lnTo>
                    <a:pt x="346" y="35"/>
                  </a:lnTo>
                  <a:lnTo>
                    <a:pt x="0" y="35"/>
                  </a:lnTo>
                  <a:lnTo>
                    <a:pt x="0" y="79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8280" y="4861080"/>
              <a:ext cx="733680" cy="8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68280" y="4861080"/>
              <a:ext cx="733680" cy="8269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7320" y="50292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Bob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78440" y="5187960"/>
              <a:ext cx="49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Vozzol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6880" y="535464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Proposal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4320" y="4697280"/>
              <a:ext cx="550800" cy="163800"/>
            </a:xfrm>
            <a:custGeom>
              <a:avLst/>
              <a:gdLst/>
              <a:ahLst/>
              <a:rect l="l" t="t" r="r" b="b"/>
              <a:pathLst>
                <a:path w="347" h="103">
                  <a:moveTo>
                    <a:pt x="0" y="0"/>
                  </a:moveTo>
                  <a:lnTo>
                    <a:pt x="0" y="35"/>
                  </a:lnTo>
                  <a:lnTo>
                    <a:pt x="347" y="35"/>
                  </a:lnTo>
                  <a:lnTo>
                    <a:pt x="347" y="103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43520" y="3579840"/>
              <a:ext cx="733320" cy="1765440"/>
            </a:xfrm>
            <a:custGeom>
              <a:avLst/>
              <a:gdLst/>
              <a:ahLst/>
              <a:rect l="l" t="t" r="r" b="b"/>
              <a:pathLst>
                <a:path w="462" h="1112">
                  <a:moveTo>
                    <a:pt x="0" y="0"/>
                  </a:moveTo>
                  <a:lnTo>
                    <a:pt x="0" y="1112"/>
                  </a:lnTo>
                  <a:lnTo>
                    <a:pt x="462" y="1112"/>
                  </a:lnTo>
                </a:path>
              </a:pathLst>
            </a:custGeom>
            <a:noFill/>
            <a:ln cap="rnd" w="7920">
              <a:solidFill>
                <a:srgbClr val="46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60600" y="4545000"/>
              <a:ext cx="174168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60600" y="4545000"/>
              <a:ext cx="1741680" cy="828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63920" y="4716360"/>
              <a:ext cx="1538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Support From Contract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06680" y="4875120"/>
              <a:ext cx="161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Arial"/>
                </a:rPr>
                <a:t>and Finance Depar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3BC-0B23-43F4-AE1F-A61277785A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876920" y="928800"/>
            <a:ext cx="4141800" cy="2854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52280" y="1171440"/>
            <a:ext cx="4130640" cy="2867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477120" y="2071800"/>
            <a:ext cx="987480" cy="291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603440" y="2071800"/>
            <a:ext cx="987480" cy="291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50440" y="251460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TO R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1880" y="25146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TO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733920"/>
            <a:ext cx="8153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380988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3962520"/>
            <a:ext cx="3962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Lindy Martin – NATO Marketing Offi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The ManTech Interface to U.S. Miss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Support Document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Pre-Qualification of Bids (Pro-Activ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Facilitate Customer Visi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Marketing/Customer Rel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Foreign Teaming Relationship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Customer Intellige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962520"/>
            <a:ext cx="4114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99"/>
                </a:solidFill>
                <a:latin typeface="Arial"/>
              </a:rPr>
              <a:t>Todd Morgan/Theresa Schimek – NATO Coordination Offi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Intra-ManTech Coordination for NATO Bid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Team ManTech Approach to Bid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3399"/>
                </a:solidFill>
                <a:latin typeface="Arial"/>
              </a:rPr>
              <a:t>DSG, IS&amp;T, SM&amp;A, M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ITAR/EAR Review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Pre-Qualification of Bids (Pro-Activ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Security/Clearance Coordin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Proposal Suppor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NATO Biz / Ops, PM, CA, AP, AR and Financ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2197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ManTech NATO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Rear &amp; Forward</a:t>
            </a:r>
            <a:br>
              <a:rPr sz="2100"/>
            </a:b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Organizational Responsibilities</a:t>
            </a:r>
            <a:endParaRPr b="1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2B7-75A6-4084-A994-D95057EAC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6643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Firm Fixed Price (FFP) Proposal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Bid Bonds / Performance Bonds (Avg.10% of contract value) /Liquidated Damag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High use of Nationals of NATO nations as sub/consultants (Industrial Benefit Sharing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Export Control Compliance (TAA’s and export licenses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Pricing of large Material buy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20000"/>
              </a:lnSpc>
              <a:spcBef>
                <a:spcPts val="15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Foreign Currency – Exchange Rat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657240" y="151920"/>
            <a:ext cx="53053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Differences  in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Doing Business With NATO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3A3-896F-4F2B-9AD6-AEEDF7580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Is Firm Fixed Price (FFP) Really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 Firm Fixed Price?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191120" cy="457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-45072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In a  NATO FFP proposal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west compliant bid normally wins -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NOT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“Best Value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as in many US propos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owever, Best Value is being used on a very limited basis during a two-year tr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hen NATO funds a project the monies allocated can NOT be used for any other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24080" indent="-228600">
              <a:lnSpc>
                <a:spcPct val="95000"/>
              </a:lnSpc>
              <a:spcBef>
                <a:spcPts val="113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us a project funded at $2m with a winning proposal of $1.5m leaves NATO an extra $.5m to use on the project (ECP’s awarded sole source to the contract hol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68904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676520"/>
            <a:ext cx="43434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Is a NATO FFP contract renegotiable?- Ye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many FFP contracts we have gone back to NATO for additional compens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recent example would be the “Secure VTC “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e requested and were granted over $130K which equates to 10% of the entire contract val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F3A-1594-4DFC-8954-14344D608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19520" y="39625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Aw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5229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NATO Proposal Proces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29280" y="1473120"/>
            <a:ext cx="8291520" cy="4961160"/>
            <a:chOff x="629280" y="1473120"/>
            <a:chExt cx="8291520" cy="4961160"/>
          </a:xfrm>
        </p:grpSpPr>
        <p:sp>
          <p:nvSpPr>
            <p:cNvPr id="247" name=""/>
            <p:cNvSpPr/>
            <p:nvPr/>
          </p:nvSpPr>
          <p:spPr>
            <a:xfrm>
              <a:off x="629280" y="1579680"/>
              <a:ext cx="1546200" cy="15764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9280" y="1579680"/>
              <a:ext cx="1546200" cy="15764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160" y="1631880"/>
              <a:ext cx="1373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rtunity  Identifi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7520" y="2617920"/>
              <a:ext cx="1154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aming interest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5000" y="2781360"/>
              <a:ext cx="56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dentifi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91880" y="1973160"/>
              <a:ext cx="515880" cy="492120"/>
            </a:xfrm>
            <a:custGeom>
              <a:avLst/>
              <a:gdLst/>
              <a:ahLst/>
              <a:rect l="l" t="t" r="r" b="b"/>
              <a:pathLst>
                <a:path w="311" h="310">
                  <a:moveTo>
                    <a:pt x="78" y="0"/>
                  </a:moveTo>
                  <a:lnTo>
                    <a:pt x="78" y="233"/>
                  </a:lnTo>
                  <a:lnTo>
                    <a:pt x="0" y="233"/>
                  </a:lnTo>
                  <a:lnTo>
                    <a:pt x="156" y="310"/>
                  </a:lnTo>
                  <a:lnTo>
                    <a:pt x="311" y="233"/>
                  </a:lnTo>
                  <a:lnTo>
                    <a:pt x="233" y="233"/>
                  </a:lnTo>
                  <a:lnTo>
                    <a:pt x="23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8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91880" y="1973160"/>
              <a:ext cx="515880" cy="492120"/>
            </a:xfrm>
            <a:custGeom>
              <a:avLst/>
              <a:gdLst/>
              <a:ahLst/>
              <a:rect l="l" t="t" r="r" b="b"/>
              <a:pathLst>
                <a:path w="311" h="310">
                  <a:moveTo>
                    <a:pt x="78" y="0"/>
                  </a:moveTo>
                  <a:lnTo>
                    <a:pt x="78" y="233"/>
                  </a:lnTo>
                  <a:lnTo>
                    <a:pt x="0" y="233"/>
                  </a:lnTo>
                  <a:lnTo>
                    <a:pt x="156" y="310"/>
                  </a:lnTo>
                  <a:lnTo>
                    <a:pt x="311" y="233"/>
                  </a:lnTo>
                  <a:lnTo>
                    <a:pt x="233" y="233"/>
                  </a:lnTo>
                  <a:lnTo>
                    <a:pt x="233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8240" y="1473120"/>
              <a:ext cx="1469880" cy="1943280"/>
            </a:xfrm>
            <a:custGeom>
              <a:avLst/>
              <a:gdLst/>
              <a:ahLst/>
              <a:rect l="l" t="t" r="r" b="b"/>
              <a:pathLst>
                <a:path w="886" h="1224">
                  <a:moveTo>
                    <a:pt x="0" y="918"/>
                  </a:moveTo>
                  <a:lnTo>
                    <a:pt x="597" y="918"/>
                  </a:lnTo>
                  <a:lnTo>
                    <a:pt x="597" y="1224"/>
                  </a:lnTo>
                  <a:lnTo>
                    <a:pt x="886" y="612"/>
                  </a:lnTo>
                  <a:lnTo>
                    <a:pt x="597" y="0"/>
                  </a:lnTo>
                  <a:lnTo>
                    <a:pt x="597" y="306"/>
                  </a:lnTo>
                  <a:lnTo>
                    <a:pt x="0" y="306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9920" y="1473120"/>
              <a:ext cx="1438200" cy="1943280"/>
            </a:xfrm>
            <a:custGeom>
              <a:avLst/>
              <a:gdLst/>
              <a:ahLst/>
              <a:rect l="l" t="t" r="r" b="b"/>
              <a:pathLst>
                <a:path w="867" h="1224">
                  <a:moveTo>
                    <a:pt x="0" y="918"/>
                  </a:moveTo>
                  <a:lnTo>
                    <a:pt x="578" y="918"/>
                  </a:lnTo>
                  <a:lnTo>
                    <a:pt x="578" y="1224"/>
                  </a:lnTo>
                  <a:lnTo>
                    <a:pt x="867" y="612"/>
                  </a:lnTo>
                  <a:lnTo>
                    <a:pt x="578" y="0"/>
                  </a:lnTo>
                  <a:lnTo>
                    <a:pt x="578" y="306"/>
                  </a:lnTo>
                  <a:lnTo>
                    <a:pt x="0" y="30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83080" y="1962000"/>
              <a:ext cx="6480" cy="9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83080" y="1962000"/>
              <a:ext cx="6480" cy="965520"/>
            </a:xfrm>
            <a:prstGeom prst="rect">
              <a:avLst/>
            </a:prstGeom>
            <a:noFill/>
            <a:ln cap="rnd" w="9360">
              <a:solidFill>
                <a:srgbClr val="dde2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4280" y="2031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3040" y="203184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FP Issu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4280" y="2197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11960" y="2197080"/>
              <a:ext cx="63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d no Bi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4280" y="2360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2960" y="236052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Bid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6680" y="2360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&amp;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240" y="236052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Performanc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52200" y="252576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Bond 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68920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requirements review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88400" y="1579680"/>
              <a:ext cx="1546200" cy="15764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88400" y="1579680"/>
              <a:ext cx="1546200" cy="15764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95120" y="187812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rite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187812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Shall”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12400" y="2043000"/>
              <a:ext cx="95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ements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11040" y="220680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lian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04680" y="237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69480" y="2371680"/>
              <a:ext cx="1289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hat they asked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40680" y="2535120"/>
              <a:ext cx="130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t necessarily what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69720" y="270036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y ne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6920" y="270036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89040" y="1652760"/>
              <a:ext cx="1081440" cy="615600"/>
            </a:xfrm>
            <a:custGeom>
              <a:avLst/>
              <a:gdLst/>
              <a:ahLst/>
              <a:rect l="l" t="t" r="r" b="b"/>
              <a:pathLst>
                <a:path w="1613" h="960">
                  <a:moveTo>
                    <a:pt x="0" y="384"/>
                  </a:moveTo>
                  <a:lnTo>
                    <a:pt x="893" y="384"/>
                  </a:lnTo>
                  <a:cubicBezTo>
                    <a:pt x="973" y="384"/>
                    <a:pt x="1037" y="449"/>
                    <a:pt x="1037" y="528"/>
                  </a:cubicBezTo>
                  <a:cubicBezTo>
                    <a:pt x="1037" y="528"/>
                    <a:pt x="1037" y="528"/>
                    <a:pt x="1037" y="528"/>
                  </a:cubicBezTo>
                  <a:lnTo>
                    <a:pt x="1037" y="528"/>
                  </a:lnTo>
                  <a:lnTo>
                    <a:pt x="1037" y="768"/>
                  </a:lnTo>
                  <a:lnTo>
                    <a:pt x="845" y="768"/>
                  </a:lnTo>
                  <a:lnTo>
                    <a:pt x="1229" y="960"/>
                  </a:lnTo>
                  <a:lnTo>
                    <a:pt x="1613" y="768"/>
                  </a:lnTo>
                  <a:lnTo>
                    <a:pt x="1421" y="768"/>
                  </a:lnTo>
                  <a:lnTo>
                    <a:pt x="1421" y="528"/>
                  </a:lnTo>
                  <a:cubicBezTo>
                    <a:pt x="1421" y="237"/>
                    <a:pt x="1185" y="0"/>
                    <a:pt x="893" y="0"/>
                  </a:cubicBezTo>
                  <a:lnTo>
                    <a:pt x="893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89040" y="1652760"/>
              <a:ext cx="1081440" cy="615600"/>
            </a:xfrm>
            <a:custGeom>
              <a:avLst/>
              <a:gdLst/>
              <a:ahLst/>
              <a:rect l="l" t="t" r="r" b="b"/>
              <a:pathLst>
                <a:path w="1613" h="960">
                  <a:moveTo>
                    <a:pt x="0" y="384"/>
                  </a:moveTo>
                  <a:lnTo>
                    <a:pt x="893" y="384"/>
                  </a:lnTo>
                  <a:cubicBezTo>
                    <a:pt x="973" y="384"/>
                    <a:pt x="1037" y="449"/>
                    <a:pt x="1037" y="528"/>
                  </a:cubicBezTo>
                  <a:cubicBezTo>
                    <a:pt x="1037" y="528"/>
                    <a:pt x="1037" y="528"/>
                    <a:pt x="1037" y="528"/>
                  </a:cubicBezTo>
                  <a:lnTo>
                    <a:pt x="1037" y="528"/>
                  </a:lnTo>
                  <a:lnTo>
                    <a:pt x="1037" y="768"/>
                  </a:lnTo>
                  <a:lnTo>
                    <a:pt x="845" y="768"/>
                  </a:lnTo>
                  <a:lnTo>
                    <a:pt x="1229" y="960"/>
                  </a:lnTo>
                  <a:lnTo>
                    <a:pt x="1613" y="768"/>
                  </a:lnTo>
                  <a:lnTo>
                    <a:pt x="1421" y="768"/>
                  </a:lnTo>
                  <a:lnTo>
                    <a:pt x="1421" y="528"/>
                  </a:lnTo>
                  <a:cubicBezTo>
                    <a:pt x="1421" y="237"/>
                    <a:pt x="1185" y="0"/>
                    <a:pt x="893" y="0"/>
                  </a:cubicBezTo>
                  <a:lnTo>
                    <a:pt x="893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3120" y="2368440"/>
              <a:ext cx="1544760" cy="7876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3120" y="2368440"/>
              <a:ext cx="1544760" cy="7876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60560" y="2597040"/>
              <a:ext cx="1175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elop Pricing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97200" y="276084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sure Lowest Pr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6720" y="2638440"/>
              <a:ext cx="874080" cy="517680"/>
            </a:xfrm>
            <a:custGeom>
              <a:avLst/>
              <a:gdLst/>
              <a:ahLst/>
              <a:rect l="l" t="t" r="r" b="b"/>
              <a:pathLst>
                <a:path w="1305" h="807">
                  <a:moveTo>
                    <a:pt x="0" y="384"/>
                  </a:moveTo>
                  <a:lnTo>
                    <a:pt x="585" y="384"/>
                  </a:lnTo>
                  <a:cubicBezTo>
                    <a:pt x="665" y="384"/>
                    <a:pt x="729" y="449"/>
                    <a:pt x="729" y="528"/>
                  </a:cubicBezTo>
                  <a:cubicBezTo>
                    <a:pt x="729" y="528"/>
                    <a:pt x="729" y="528"/>
                    <a:pt x="729" y="528"/>
                  </a:cubicBezTo>
                  <a:lnTo>
                    <a:pt x="729" y="615"/>
                  </a:lnTo>
                  <a:lnTo>
                    <a:pt x="537" y="615"/>
                  </a:lnTo>
                  <a:lnTo>
                    <a:pt x="921" y="807"/>
                  </a:lnTo>
                  <a:lnTo>
                    <a:pt x="1305" y="615"/>
                  </a:lnTo>
                  <a:lnTo>
                    <a:pt x="1113" y="615"/>
                  </a:lnTo>
                  <a:lnTo>
                    <a:pt x="1113" y="528"/>
                  </a:lnTo>
                  <a:cubicBezTo>
                    <a:pt x="1113" y="237"/>
                    <a:pt x="877" y="0"/>
                    <a:pt x="585" y="0"/>
                  </a:cubicBezTo>
                  <a:lnTo>
                    <a:pt x="585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6720" y="2638440"/>
              <a:ext cx="874080" cy="517680"/>
            </a:xfrm>
            <a:custGeom>
              <a:avLst/>
              <a:gdLst/>
              <a:ahLst/>
              <a:rect l="l" t="t" r="r" b="b"/>
              <a:pathLst>
                <a:path w="1305" h="807">
                  <a:moveTo>
                    <a:pt x="0" y="384"/>
                  </a:moveTo>
                  <a:lnTo>
                    <a:pt x="585" y="384"/>
                  </a:lnTo>
                  <a:cubicBezTo>
                    <a:pt x="665" y="384"/>
                    <a:pt x="729" y="449"/>
                    <a:pt x="729" y="528"/>
                  </a:cubicBezTo>
                  <a:cubicBezTo>
                    <a:pt x="729" y="528"/>
                    <a:pt x="729" y="528"/>
                    <a:pt x="729" y="528"/>
                  </a:cubicBezTo>
                  <a:lnTo>
                    <a:pt x="729" y="615"/>
                  </a:lnTo>
                  <a:lnTo>
                    <a:pt x="537" y="615"/>
                  </a:lnTo>
                  <a:lnTo>
                    <a:pt x="921" y="807"/>
                  </a:lnTo>
                  <a:lnTo>
                    <a:pt x="1305" y="615"/>
                  </a:lnTo>
                  <a:lnTo>
                    <a:pt x="1113" y="615"/>
                  </a:lnTo>
                  <a:lnTo>
                    <a:pt x="1113" y="528"/>
                  </a:lnTo>
                  <a:cubicBezTo>
                    <a:pt x="1113" y="237"/>
                    <a:pt x="877" y="0"/>
                    <a:pt x="585" y="0"/>
                  </a:cubicBezTo>
                  <a:lnTo>
                    <a:pt x="585" y="0"/>
                  </a:lnTo>
                  <a:lnTo>
                    <a:pt x="0" y="0"/>
                  </a:lnTo>
                  <a:lnTo>
                    <a:pt x="0" y="384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42320" y="3352680"/>
              <a:ext cx="850680" cy="612720"/>
            </a:xfrm>
            <a:custGeom>
              <a:avLst/>
              <a:gdLst/>
              <a:ahLst/>
              <a:rect l="l" t="t" r="r" b="b"/>
              <a:pathLst>
                <a:path w="1267" h="953">
                  <a:moveTo>
                    <a:pt x="883" y="0"/>
                  </a:moveTo>
                  <a:lnTo>
                    <a:pt x="883" y="201"/>
                  </a:lnTo>
                  <a:cubicBezTo>
                    <a:pt x="883" y="285"/>
                    <a:pt x="817" y="354"/>
                    <a:pt x="733" y="357"/>
                  </a:cubicBezTo>
                  <a:lnTo>
                    <a:pt x="185" y="377"/>
                  </a:lnTo>
                  <a:lnTo>
                    <a:pt x="178" y="185"/>
                  </a:lnTo>
                  <a:lnTo>
                    <a:pt x="0" y="576"/>
                  </a:lnTo>
                  <a:lnTo>
                    <a:pt x="206" y="953"/>
                  </a:lnTo>
                  <a:lnTo>
                    <a:pt x="199" y="761"/>
                  </a:lnTo>
                  <a:lnTo>
                    <a:pt x="746" y="741"/>
                  </a:lnTo>
                  <a:cubicBezTo>
                    <a:pt x="1037" y="731"/>
                    <a:pt x="1267" y="492"/>
                    <a:pt x="1267" y="201"/>
                  </a:cubicBezTo>
                  <a:lnTo>
                    <a:pt x="1267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42320" y="3352680"/>
              <a:ext cx="850680" cy="612720"/>
            </a:xfrm>
            <a:custGeom>
              <a:avLst/>
              <a:gdLst/>
              <a:ahLst/>
              <a:rect l="l" t="t" r="r" b="b"/>
              <a:pathLst>
                <a:path w="1267" h="953">
                  <a:moveTo>
                    <a:pt x="883" y="0"/>
                  </a:moveTo>
                  <a:lnTo>
                    <a:pt x="883" y="201"/>
                  </a:lnTo>
                  <a:cubicBezTo>
                    <a:pt x="883" y="285"/>
                    <a:pt x="817" y="354"/>
                    <a:pt x="733" y="357"/>
                  </a:cubicBezTo>
                  <a:lnTo>
                    <a:pt x="185" y="377"/>
                  </a:lnTo>
                  <a:lnTo>
                    <a:pt x="178" y="185"/>
                  </a:lnTo>
                  <a:lnTo>
                    <a:pt x="0" y="576"/>
                  </a:lnTo>
                  <a:lnTo>
                    <a:pt x="206" y="953"/>
                  </a:lnTo>
                  <a:lnTo>
                    <a:pt x="199" y="761"/>
                  </a:lnTo>
                  <a:lnTo>
                    <a:pt x="746" y="741"/>
                  </a:lnTo>
                  <a:cubicBezTo>
                    <a:pt x="1037" y="731"/>
                    <a:pt x="1267" y="492"/>
                    <a:pt x="1267" y="201"/>
                  </a:cubicBezTo>
                  <a:lnTo>
                    <a:pt x="1267" y="0"/>
                  </a:lnTo>
                  <a:lnTo>
                    <a:pt x="883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3120" y="3451320"/>
              <a:ext cx="1544760" cy="15778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3120" y="3451320"/>
              <a:ext cx="1544760" cy="15778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50120" y="352116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TO Reviews for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57120" y="368460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Complian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0640" y="4497480"/>
              <a:ext cx="114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Lowest Price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99320" y="4732200"/>
              <a:ext cx="42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Arial"/>
                </a:rPr>
                <a:t>Wi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9360" y="3944880"/>
              <a:ext cx="51408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77" y="0"/>
                  </a:moveTo>
                  <a:lnTo>
                    <a:pt x="77" y="232"/>
                  </a:lnTo>
                  <a:lnTo>
                    <a:pt x="0" y="232"/>
                  </a:lnTo>
                  <a:lnTo>
                    <a:pt x="155" y="310"/>
                  </a:lnTo>
                  <a:lnTo>
                    <a:pt x="310" y="232"/>
                  </a:lnTo>
                  <a:lnTo>
                    <a:pt x="232" y="232"/>
                  </a:lnTo>
                  <a:lnTo>
                    <a:pt x="232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87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59360" y="3944880"/>
              <a:ext cx="514080" cy="49212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77" y="0"/>
                  </a:moveTo>
                  <a:lnTo>
                    <a:pt x="77" y="232"/>
                  </a:lnTo>
                  <a:lnTo>
                    <a:pt x="0" y="232"/>
                  </a:lnTo>
                  <a:lnTo>
                    <a:pt x="155" y="310"/>
                  </a:lnTo>
                  <a:lnTo>
                    <a:pt x="310" y="232"/>
                  </a:lnTo>
                  <a:lnTo>
                    <a:pt x="232" y="232"/>
                  </a:lnTo>
                  <a:lnTo>
                    <a:pt x="232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724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6724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17280" y="3551400"/>
              <a:ext cx="1544040" cy="15760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17280" y="3551400"/>
              <a:ext cx="1544040" cy="15760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89720" y="3767040"/>
              <a:ext cx="1254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nter “Discussions”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7040" y="393228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here contract pric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67040" y="409572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 be  increased 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92200" y="4260960"/>
              <a:ext cx="41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liv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55880" y="4424400"/>
              <a:ext cx="1319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functionality they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29320" y="4587840"/>
              <a:ext cx="1177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tually need  and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52440" y="475308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ase profi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9252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92520" y="3649680"/>
              <a:ext cx="618840" cy="1133280"/>
            </a:xfrm>
            <a:custGeom>
              <a:avLst/>
              <a:gdLst/>
              <a:ahLst/>
              <a:rect l="l" t="t" r="r" b="b"/>
              <a:pathLst>
                <a:path w="373" h="714">
                  <a:moveTo>
                    <a:pt x="373" y="178"/>
                  </a:moveTo>
                  <a:lnTo>
                    <a:pt x="124" y="178"/>
                  </a:lnTo>
                  <a:lnTo>
                    <a:pt x="124" y="0"/>
                  </a:lnTo>
                  <a:lnTo>
                    <a:pt x="0" y="357"/>
                  </a:lnTo>
                  <a:lnTo>
                    <a:pt x="124" y="714"/>
                  </a:lnTo>
                  <a:lnTo>
                    <a:pt x="124" y="535"/>
                  </a:lnTo>
                  <a:lnTo>
                    <a:pt x="373" y="535"/>
                  </a:lnTo>
                  <a:lnTo>
                    <a:pt x="373" y="17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3360" y="4635360"/>
              <a:ext cx="1673640" cy="122400"/>
            </a:xfrm>
            <a:custGeom>
              <a:avLst/>
              <a:gdLst/>
              <a:ahLst/>
              <a:rect l="l" t="t" r="r" b="b"/>
              <a:pathLst>
                <a:path w="1009" h="77">
                  <a:moveTo>
                    <a:pt x="931" y="0"/>
                  </a:moveTo>
                  <a:lnTo>
                    <a:pt x="0" y="0"/>
                  </a:lnTo>
                  <a:lnTo>
                    <a:pt x="78" y="77"/>
                  </a:lnTo>
                  <a:lnTo>
                    <a:pt x="1009" y="77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3360" y="4635360"/>
              <a:ext cx="1673640" cy="122400"/>
            </a:xfrm>
            <a:custGeom>
              <a:avLst/>
              <a:gdLst/>
              <a:ahLst/>
              <a:rect l="l" t="t" r="r" b="b"/>
              <a:pathLst>
                <a:path w="1009" h="77">
                  <a:moveTo>
                    <a:pt x="931" y="0"/>
                  </a:moveTo>
                  <a:lnTo>
                    <a:pt x="0" y="0"/>
                  </a:lnTo>
                  <a:lnTo>
                    <a:pt x="78" y="77"/>
                  </a:lnTo>
                  <a:lnTo>
                    <a:pt x="1009" y="77"/>
                  </a:lnTo>
                  <a:lnTo>
                    <a:pt x="931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27760" y="3649680"/>
              <a:ext cx="129240" cy="1108080"/>
            </a:xfrm>
            <a:custGeom>
              <a:avLst/>
              <a:gdLst/>
              <a:ahLst/>
              <a:rect l="l" t="t" r="r" b="b"/>
              <a:pathLst>
                <a:path w="78" h="698">
                  <a:moveTo>
                    <a:pt x="78" y="698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7"/>
                  </a:lnTo>
                  <a:lnTo>
                    <a:pt x="78" y="698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27760" y="3649680"/>
              <a:ext cx="129240" cy="1108080"/>
            </a:xfrm>
            <a:custGeom>
              <a:avLst/>
              <a:gdLst/>
              <a:ahLst/>
              <a:rect l="l" t="t" r="r" b="b"/>
              <a:pathLst>
                <a:path w="78" h="698">
                  <a:moveTo>
                    <a:pt x="78" y="698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7"/>
                  </a:lnTo>
                  <a:lnTo>
                    <a:pt x="78" y="698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3360" y="3649680"/>
              <a:ext cx="1544040" cy="98568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3360" y="3649680"/>
              <a:ext cx="1544040" cy="98568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02600" y="404496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78880" y="4930920"/>
              <a:ext cx="902160" cy="1231920"/>
            </a:xfrm>
            <a:custGeom>
              <a:avLst/>
              <a:gdLst/>
              <a:ahLst/>
              <a:rect l="l" t="t" r="r" b="b"/>
              <a:pathLst>
                <a:path w="1344" h="1920">
                  <a:moveTo>
                    <a:pt x="0" y="0"/>
                  </a:moveTo>
                  <a:lnTo>
                    <a:pt x="0" y="1200"/>
                  </a:lnTo>
                  <a:cubicBezTo>
                    <a:pt x="0" y="1492"/>
                    <a:pt x="236" y="1728"/>
                    <a:pt x="528" y="1728"/>
                  </a:cubicBezTo>
                  <a:cubicBezTo>
                    <a:pt x="528" y="1728"/>
                    <a:pt x="528" y="1728"/>
                    <a:pt x="528" y="1728"/>
                  </a:cubicBezTo>
                  <a:lnTo>
                    <a:pt x="528" y="1728"/>
                  </a:lnTo>
                  <a:lnTo>
                    <a:pt x="1152" y="1728"/>
                  </a:lnTo>
                  <a:lnTo>
                    <a:pt x="1152" y="1920"/>
                  </a:lnTo>
                  <a:lnTo>
                    <a:pt x="1344" y="1536"/>
                  </a:lnTo>
                  <a:lnTo>
                    <a:pt x="1152" y="1152"/>
                  </a:lnTo>
                  <a:lnTo>
                    <a:pt x="1152" y="1344"/>
                  </a:lnTo>
                  <a:lnTo>
                    <a:pt x="528" y="1344"/>
                  </a:lnTo>
                  <a:cubicBezTo>
                    <a:pt x="448" y="1344"/>
                    <a:pt x="384" y="1280"/>
                    <a:pt x="384" y="1200"/>
                  </a:cubicBez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2c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78880" y="4930920"/>
              <a:ext cx="902160" cy="1231920"/>
            </a:xfrm>
            <a:custGeom>
              <a:avLst/>
              <a:gdLst/>
              <a:ahLst/>
              <a:rect l="l" t="t" r="r" b="b"/>
              <a:pathLst>
                <a:path w="1344" h="1920">
                  <a:moveTo>
                    <a:pt x="0" y="0"/>
                  </a:moveTo>
                  <a:lnTo>
                    <a:pt x="0" y="1200"/>
                  </a:lnTo>
                  <a:cubicBezTo>
                    <a:pt x="0" y="1492"/>
                    <a:pt x="236" y="1728"/>
                    <a:pt x="528" y="1728"/>
                  </a:cubicBezTo>
                  <a:cubicBezTo>
                    <a:pt x="528" y="1728"/>
                    <a:pt x="528" y="1728"/>
                    <a:pt x="528" y="1728"/>
                  </a:cubicBezTo>
                  <a:lnTo>
                    <a:pt x="528" y="1728"/>
                  </a:lnTo>
                  <a:lnTo>
                    <a:pt x="1152" y="1728"/>
                  </a:lnTo>
                  <a:lnTo>
                    <a:pt x="1152" y="1920"/>
                  </a:lnTo>
                  <a:lnTo>
                    <a:pt x="1344" y="1536"/>
                  </a:lnTo>
                  <a:lnTo>
                    <a:pt x="1152" y="1152"/>
                  </a:lnTo>
                  <a:lnTo>
                    <a:pt x="1152" y="1344"/>
                  </a:lnTo>
                  <a:lnTo>
                    <a:pt x="528" y="1344"/>
                  </a:lnTo>
                  <a:cubicBezTo>
                    <a:pt x="448" y="1344"/>
                    <a:pt x="384" y="1280"/>
                    <a:pt x="384" y="1200"/>
                  </a:cubicBezTo>
                  <a:lnTo>
                    <a:pt x="38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4000" y="6310440"/>
              <a:ext cx="5021640" cy="123840"/>
            </a:xfrm>
            <a:custGeom>
              <a:avLst/>
              <a:gdLst/>
              <a:ahLst/>
              <a:rect l="l" t="t" r="r" b="b"/>
              <a:pathLst>
                <a:path w="3027" h="78">
                  <a:moveTo>
                    <a:pt x="2949" y="0"/>
                  </a:moveTo>
                  <a:lnTo>
                    <a:pt x="0" y="0"/>
                  </a:lnTo>
                  <a:lnTo>
                    <a:pt x="78" y="78"/>
                  </a:lnTo>
                  <a:lnTo>
                    <a:pt x="3027" y="78"/>
                  </a:lnTo>
                  <a:lnTo>
                    <a:pt x="2949" y="0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44000" y="6310440"/>
              <a:ext cx="5021640" cy="123840"/>
            </a:xfrm>
            <a:custGeom>
              <a:avLst/>
              <a:gdLst/>
              <a:ahLst/>
              <a:rect l="l" t="t" r="r" b="b"/>
              <a:pathLst>
                <a:path w="3027" h="78">
                  <a:moveTo>
                    <a:pt x="2949" y="0"/>
                  </a:moveTo>
                  <a:lnTo>
                    <a:pt x="0" y="0"/>
                  </a:lnTo>
                  <a:lnTo>
                    <a:pt x="78" y="78"/>
                  </a:lnTo>
                  <a:lnTo>
                    <a:pt x="3027" y="78"/>
                  </a:lnTo>
                  <a:lnTo>
                    <a:pt x="2949" y="0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6400" y="5324400"/>
              <a:ext cx="129240" cy="1109880"/>
            </a:xfrm>
            <a:custGeom>
              <a:avLst/>
              <a:gdLst/>
              <a:ahLst/>
              <a:rect l="l" t="t" r="r" b="b"/>
              <a:pathLst>
                <a:path w="78" h="699">
                  <a:moveTo>
                    <a:pt x="78" y="699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8"/>
                  </a:lnTo>
                  <a:lnTo>
                    <a:pt x="78" y="699"/>
                  </a:lnTo>
                  <a:close/>
                </a:path>
              </a:pathLst>
            </a:custGeom>
            <a:solidFill>
              <a:srgbClr val="dad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36400" y="5324400"/>
              <a:ext cx="129240" cy="1109880"/>
            </a:xfrm>
            <a:custGeom>
              <a:avLst/>
              <a:gdLst/>
              <a:ahLst/>
              <a:rect l="l" t="t" r="r" b="b"/>
              <a:pathLst>
                <a:path w="78" h="699">
                  <a:moveTo>
                    <a:pt x="78" y="699"/>
                  </a:moveTo>
                  <a:lnTo>
                    <a:pt x="0" y="621"/>
                  </a:lnTo>
                  <a:lnTo>
                    <a:pt x="0" y="0"/>
                  </a:lnTo>
                  <a:lnTo>
                    <a:pt x="78" y="78"/>
                  </a:lnTo>
                  <a:lnTo>
                    <a:pt x="78" y="699"/>
                  </a:lnTo>
                  <a:close/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4000" y="5324400"/>
              <a:ext cx="4892400" cy="986040"/>
            </a:xfrm>
            <a:prstGeom prst="rect">
              <a:avLst/>
            </a:prstGeom>
            <a:solidFill>
              <a:srgbClr val="dde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44000" y="5324400"/>
              <a:ext cx="4892400" cy="986040"/>
            </a:xfrm>
            <a:prstGeom prst="rect">
              <a:avLst/>
            </a:pr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63320" y="5626080"/>
              <a:ext cx="383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portunities also exist for additional revenue base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9840" y="5819760"/>
              <a:ext cx="385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n NATO not meeting assumptions stated in contrac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781-2B9A-45AF-A5BD-6C8C86E2B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Bid Bonds/ Performance Bonds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 Liquidated Damage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25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Bond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at are the costs associated with Money tied up in bond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at are the opportunity costs in tying up the credit lin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ho should bear these cos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1676520"/>
            <a:ext cx="4343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Liquidated Damag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Tech has never incurred any NATO related Liquidated Da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the last 25 years NATO has not imposed any Liquidated Damages on a contra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we are mismanaging a project and Liquidated Damages are imposed we have bigger problems than the Liquidated Da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3F8-CB9E-44BF-9F03-BA9A33B813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733560" y="228600"/>
            <a:ext cx="5229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ahoma"/>
              </a:rPr>
              <a:t>European Union (EU) Subs/Consultants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227016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Sub- contractors/ Consulta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We need legal review of our US contracts being used in the EU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re they Bind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o we need to rewri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7588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36000" bIns="36000" anchor="t">
            <a:normAutofit/>
          </a:bodyPr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676520"/>
            <a:ext cx="434340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marL="450720" indent="-45072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"/>
              </a:rPr>
              <a:t>Why Sub/Consultant heav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O European Union Nationals are already authorized to work in EU countries – No work visa’s requir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sidering our Wrap rates it is much more profitable to use Subs/Consultants while incurring  lower start-up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85480">
              <a:lnSpc>
                <a:spcPct val="95000"/>
              </a:lnSpc>
              <a:spcBef>
                <a:spcPts val="1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y NATO contracts begin with only a 3-month commitment and we can not incur the start up cost of bringing over a U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EAC-B24C-4722-AFD4-4C0B58C64E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53:33Z</dcterms:created>
  <dc:creator>T.I. WEINTRAUB</dc:creator>
  <dc:description/>
  <dc:language>en-US</dc:language>
  <cp:lastModifiedBy>Lindy Martin</cp:lastModifiedBy>
  <dcterms:modified xsi:type="dcterms:W3CDTF">2007-08-10T10:35:47Z</dcterms:modified>
  <cp:revision>71</cp:revision>
  <dc:subject/>
  <dc:title>Developing A New Market</dc:title>
</cp:coreProperties>
</file>